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722-95B0-4135-A812-115B3073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D86-F15D-491B-9A8D-F0ACF09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5AB-FCA6-4597-B041-B62B63FA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C5-9428-4485-A376-E3954FBB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7AD-894F-4836-A764-453DF5FB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AF8-0EB9-4E87-A46C-97BAE04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DE2-572A-4CE3-8B73-AB7E4F36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D60-4AD8-4F11-9DE5-E111A2D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256-6522-4A8F-9EE0-DE021501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C56-CC2F-477D-A02D-29E2E84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D79-9312-4FD7-B449-E74033D5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02D-8A6A-4E7E-902D-A6992F7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305B-CD92-4F91-94FD-2BDCF6E7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rio Ragusa, Alex Huynh, Fiona Schmi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t of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lot of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manufacturing and service indu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eenhouse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600200"/>
          <a:ext cx="4012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1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4T14:15:50Z</dcterms:modified>
  <cp:revision>2</cp:revision>
  <dc:subject/>
  <dc:title>Russia’s Economy</dc:title>
</cp:coreProperties>
</file>